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68D-9CBC-4899-9228-B6EDE34D1E9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3. Методологические основы менеджмента: цель, задачи, принципы, методы, функ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и менеджера (П. Друкер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е цели менеджмент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задачи менеджмен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закономерности,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правила, основные положения, нормы, которыми руководствуются менеджеры в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ять принцип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 (при управлении должно обеспечиваться оптимальное соотношение между специализацией и универсализ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тойчивость к внешней среде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 управления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ость управл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методов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Используются при решении проблем, связанных с людьми в организации (опросы, наблюдения, изучение документ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научны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психологические метод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ые вопрос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- процесс принятия решений, позволяющих обеспечить эффективное функционирование и развитие организации в будущем, уменьшить неопределенность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ы планирова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атегическое планирован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 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уководство и лидер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лияние  - поведение индивида, которое вносит изменения в поведение и отношения другого индивида или групп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дерство - отношения доминирования и подчинения, влияния и следования в системе межличностных отношений в групп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ходы к пониманию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я менеджера от лидер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о О. Виханскому  и А. Наумов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ункция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это процесс обеспечения достижения целей организ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троль - комплексная функция, включающая в себя функции учета, оценки, анали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контрол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уровню: стратегический, тактический, оператив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времени: предварительный, текущий, заключительны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объекту: финансовый, производственный, маркетинговый, кадровый, качества, материальных средств и т.п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убъекту: 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 (заведовать, руководит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r (заведующий, руководитель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management (управление). 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начения термина «менеджмент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Менеджмент как вид трудовой деятельност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Менеджмент – это научная дисциплина, посвященная проблемам, возникающим, когда люди управляют людь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искусство упр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Менеджмент – это практика реального управления и ее осмыслен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Менеджмент – это учебная дисциплина, посвященная управлению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 менеджмент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ъект менеджмент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Модель и роли менеджер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неджер 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дель менеджера Альфреда Слоу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1920-е г.г.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Управленческие роли 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(Г. Минцберг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292A-ACCB-47E1-BD83-CBB061D7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4AF-3524-4AD5-9B44-C1A9895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0A8-6A23-41FD-9197-3F8A4D11D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13C-505D-4BE3-8E65-915AF9CA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9017-05BA-4095-9AF2-6365C39D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B2F0-BA8E-467A-AA46-8D97A8EF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3720-2F36-4839-B58A-7BAB294E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162-69F1-49E0-8387-D18BFFE8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916D-9657-46E8-A770-53C5A61F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AC36-2D0C-45AF-A320-0EE0E900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4238-EB71-4E09-A169-68F2600D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D46-A2A1-4484-8FAF-042413C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EEE-83AD-4BD9-924B-A824EBF9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8CBD-2656-489B-967F-43F04101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5697-D51A-44EA-8E66-C45D9081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5754-3C5B-460C-88CE-A88A7EE6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1487-A1DC-4284-B916-071EA97F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46B-86FB-4FAE-9E55-E4D3E675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2C5E-A363-4844-8B72-A017735D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866-81B6-4866-BDE2-99E8D25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17D-00E7-46CF-B152-2B58D5F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795-1F65-46FD-A5FA-90AFB252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EBA-E65E-42E7-A6B1-FBAE0D7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5C1-61A5-4776-A993-4A070E3C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CAF-F53F-48E5-BFE5-3611383DB8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6E6A-E942-486A-8F47-513FAC957DC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597800" cy="21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Тема 3. Методологические основы менеджмента: цель, задачи, принципы, методы, функции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7704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лбаев Ю.А. к.п.н., доцен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афедра менеджмента и маркетинг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и менеджера (П. Друкер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ение целей организации и путей их дости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 работы персонала компа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здание системы мотивации и координирования деятельности работ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деятельности работника и контроль за работой персо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беспечение роста людей в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2104560"/>
            <a:ext cx="856944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Главные цели менеджмен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ение, ориентированное на успешную деятельность, присущее каждой организации и отдельно взятому челове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живание организации, сохранение своего места на рынке в течение длительного врем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стижение намеченных результатов, т. е. обеспечение определенного уровня прибыл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стоянное преодоление риска или рисковых ситуаций не только в настоящем, но и в будущем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476360" y="620640"/>
            <a:ext cx="6983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3. Цели, задачи и принцип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сновные задачи менеджмента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 производства товаров и услуг с учетом спроса потребителей на основе имеющихся рес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еход к использованию работников, обладающих высокой квалификаци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тимулирование сотрудников организации путем создания для них соответствующих условий труда и системы его оплат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необходимых ресурсов и источников их обеспеч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зработка стратегии развития организации и реализац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пределение целей развития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работка системы мероприятий для достижения намеченных ц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существление контроля за эффективностью деятельности организации, за выполнением поставленных задач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280" y="6857640"/>
            <a:ext cx="76294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16000" y="40464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11280" y="2600280"/>
            <a:ext cx="806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закономерности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 рамках которых реализуются связи (отношения) между различными структурами (элементами) управленческой системы, проявляющиеся при постановке практических задач управле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авила, основные положения, норм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, которыми руководствуются менеджеры в практ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403280" y="98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ринципы менеджмен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15640" y="764640"/>
            <a:ext cx="7350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Пять принципов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79280" y="1987200"/>
            <a:ext cx="878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специализации и универс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управлении должно обеспечиваться оптимальное соотношение между специализацией и универсализаци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стойчивость к внешней сред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изменении отдельных элементов микро- и макросреды предприятия система управления должна продолжать функционировать и выполнять поставленные цели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кономич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при выборе способов и средств для осуществления управления и достижения цели необходимо ограничивать затраты: трудовые; материальные; временные; финансовые; моральные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эффективность управл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четание централизации и децентрализации в у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в каждой системе управления должен быть оптимальный уровень централизации (децентрализации) соответствующих функций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Классификация методов менеджмен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Общенаучны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Эконом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Социально-психологическ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1332000" y="90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2060640"/>
          <a:ext cx="8351640" cy="4535280"/>
        </p:xfrm>
        <a:graphic>
          <a:graphicData uri="http://schemas.openxmlformats.org/drawingml/2006/table">
            <a:tbl>
              <a:tblPr/>
              <a:tblGrid>
                <a:gridCol w="2365200"/>
                <a:gridCol w="5986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звание мет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соб упорядочивания упр. проблем, благодаря которому осуществляется их структурирование, выбираются варианты решений, устанавливаются взаимосвязи элементов проблем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мплекс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цифическая форма конкретизации системности, заключающаяся в рассмотрении проблем в их связи с методами исследования других наук, изучающих те же проблемы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ономико- математ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меняются для решения задач оптимизации, распределения ресурсов, программно-целевого планирования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6"/>
          <p:cNvSpPr/>
          <p:nvPr/>
        </p:nvSpPr>
        <p:spPr>
          <a:xfrm>
            <a:off x="2124000" y="981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делиров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Предполагает применение моделей для решения управленческих проблем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ксперимент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Эксперимент – научно поставленный опыт на базе разработанной методики с целью проверки тех или иных гипотез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кретно-исторический подход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дполагает рассмотрения каждого явления в динамике. Проблемы на каждой стадии отличаются, что требует выбора методов, наиболее соответствующих объективным закон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тоды социологических исследований </a:t>
            </a:r>
            <a:r>
              <a:rPr b="1" lang="ru-RU" sz="1900" spc="-1" strike="noStrike">
                <a:solidFill>
                  <a:srgbClr val="000000"/>
                </a:solidFill>
                <a:latin typeface="Tahoma"/>
              </a:rPr>
              <a:t>Используются при решении проблем, связанных с людьми в организации (опросы, наблюдения, изучение документов)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258920" y="105264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щенаучны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Эконом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полагают косвенное воздействие на объект управл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воевременное и качественное выполнение заданий вознаграждается денежными выплатами, зависящими от достигнутого результат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ого стимулир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материальных санк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циально-психологические мето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мирование благоприятного морально-психологического климата в коллективе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скрытие личных способностей каждого работник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мощь работнику в совершенствовании, что в конечном итоге ведет к его максимальной самореализ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16000" y="765000"/>
            <a:ext cx="7416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145120"/>
            <a:ext cx="70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69000" y="2163960"/>
            <a:ext cx="720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cc"/>
                </a:solidFill>
                <a:uFillTx/>
                <a:latin typeface="Tahoma"/>
              </a:rPr>
              <a:t>Учебные вопро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Основные понятия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Модель и роли менедж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Цели, задачи и принципы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Основные функции менеджм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4. Основные функции менеджмента.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непрерывный процесс установления или уточнения и конкретизации целей (развития организации и ее подразделений), определения средств и последовательности их достижения, а также выявления и распределения  ресурсов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лан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роцесс принятия решений, позволяющих обеспечить эффективное функционирование и развитие организации в будущем, уменьшить неопределенность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Задачи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Обеспечение целенаправленного развития организации в целом и ее элемен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Перспективная ориентация и раннее распознавание проблем развит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Координация деятельности структурных подразделений и работников организаци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Создание объективной базы для эффективного контрол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5. Стимул трудовой активности персона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. Информационное обеспечение работ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инципы планир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прерыв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ализ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ординация и интегра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ч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здание необходимых условий для выполнения пл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тратегическое планирование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ор действий и решений , предпринятых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уководством, которые ведут к разработке специфических стратегий, предназначенных для того, чтобы помочь организации достичь своих целей (термин введен в 70-е годы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организ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пределение рациональных форм разделения труда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пределение работы среди работников, групп работников подраздел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работка структуры органов упр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уководство и лидерств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лияни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поведение индивида, которое вносит изменения в поведение и отношения другого индивида или 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член группы, который в значимых ситуациях способен оказывать существенное влияние на поведение остальных участник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есть механизм воздействия индивида на групповую деятельность в условиях сознательного принятия и поддержки его действий со стороны групп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Лидерство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отношения доминирования и подчинения, влияния и следования в системе межличностных отношений в групп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Подходы к пониманию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ория чер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веденчески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туационные теории лиде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Отличия менеджера от лидер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(по О. Виханскому  и А. Наумову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4360" y="2133720"/>
          <a:ext cx="7772400" cy="4572000"/>
        </p:xfrm>
        <a:graphic>
          <a:graphicData uri="http://schemas.openxmlformats.org/drawingml/2006/table">
            <a:tbl>
              <a:tblPr/>
              <a:tblGrid>
                <a:gridCol w="3852720"/>
                <a:gridCol w="3919680"/>
              </a:tblGrid>
              <a:tr h="51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недж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5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дминистр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андует, убежд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олняет указания други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расче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организац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тролиру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держивает движ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нима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как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уваж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новат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дохновляет, призыва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собственные це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ует на основе вид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иентируется на люд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веряе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ет импульс движе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изует реш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ает, что нуж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9718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зуется любовь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ункция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5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это процесс обеспечения достижения целей организа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- постоянный процесс, обеспечивающий достижение организацией принятых целей развития путем своевременного обнаружения возникающих в ходе производственно-хозяйственной деятельности объектов управления пробл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ahoma"/>
              </a:rPr>
              <a:t>Контрол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комплексная функция, включающая в себя функции учета, оценки, анали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Задачи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22050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бор и систематизация информации о фактическом состоянии деятельности и ее результатах (функция – уче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ценка состояния и значимости полученных результатов деятельности, выявление отклонений от стандартов - плановых заданий, нормативов (функция - оценка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нализ причин отклонений и дестабилизирующих факто­ров, влияющих на результаты деятельности (функция - анализ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нозирование последствий сложившейся ситуации, обоснование необходимости принятия корректирующих воздейст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иды контрол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уровн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ратегический, тактический, оператив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времен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предварительный, текущий, заключительны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объек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финансовый, производственный, маркетинговый, кадровый, качества, материальных средств и т.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ahoma"/>
              </a:rPr>
              <a:t>По субъек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шний - осуществляемый руководством или специальными сотрудниками – контролерами, внутренний - осуществляемый самими работника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32000" y="764640"/>
            <a:ext cx="74880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1. Основные понятия менеджмен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116000" y="1802520"/>
            <a:ext cx="7632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овать, руководи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r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заведующий, руководител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(управление). 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мин «менеджмент» не является точным синонимом русскому термину «управление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правлять можно не только заводом, но и автомобилем или ракето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еджмент - всегда управление людьми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1600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Значения термина «менеджмент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95280" y="212760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. Менеджмент как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ид 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2. Менеджмент как процесс управления, со всеми его функциями, методами и средств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3. Менеджмент – это орган управления, например, совокупность подразделений аппарата управления, объединяющего менеджер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4. Менеджмент - это категория людей, профессионально занимающихся управлением, работающих на должностях, входящих в аппарат управления.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5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уч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проблемам, возникающим, когда люди управляют людь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. Менеджмент – это не только наука, но и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скусство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7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рактика реального управл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и ее осмыслен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. Менеджмент – это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учебная дисциплина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, посвященная управлению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Субъект менеджмент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ставляет собой человека или группу людей, которые осуществляют управленческие воздействия в рамках организации и для реализации ее целей и задач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Объект менеджмен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971640" y="5095800"/>
            <a:ext cx="794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5280" y="206064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то все то, на что направлены управленческие воздействия субъекта менеджмента в рамках организации и для реализации ее целей и задач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человеческие ресурсы организации, представителями которых выступает персонал, подчиненны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оставщики ресурсов для организаци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куренты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ционное обеспечение, примером которого могут служить организация и налаживание локальных сетей, поддержание программного обеспечения в работоспособном состоянии и т. д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инансы организации, т. е. непосредственно финансово-денежные потоки и управление и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циально-экономическая ситуация в стран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раструктура региона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Модель и роли менедж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енеджер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— это специалист в области управления, наемный управляющий, организующий работу предприятия, руководящий деятельностью подчиненных ему работников и выполняющий одновременно определенные управленческие функ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81723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Модель менеджера Альфреда Слоуна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(1920-е г.г.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мение управлять на основе опыта, знаний, воображ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верженность к фактам и неустанный поиск истины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крытость мышления и стремление к беспрестанному анализ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отовность идти на риск, предварительно рассчитав его цен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раведливость и уважение прав других людей и целей также организ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нципиальность и стремление отстаивать свою точку зрения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лояльность и готовность пожертвовать личным в интересах дел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вижение вперед и создание условий для лучшего выб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Управленческие роли  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ahoma"/>
              </a:rPr>
              <a:t>(Г. Минцберг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2017800"/>
          <a:ext cx="8486640" cy="4370400"/>
        </p:xfrm>
        <a:graphic>
          <a:graphicData uri="http://schemas.openxmlformats.org/drawingml/2006/table">
            <a:tbl>
              <a:tblPr/>
              <a:tblGrid>
                <a:gridCol w="4244760"/>
                <a:gridCol w="4241880"/>
              </a:tblGrid>
              <a:tr h="117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жличност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лавный руковод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д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язующее зв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формационная ро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емник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остранитель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дстав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ь, связанная с принятием реш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траняющий нару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пределитель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дущий перегов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55:26Z</dcterms:created>
  <dc:creator>Дмитрий</dc:creator>
  <dc:description/>
  <dc:language>en-US</dc:language>
  <cp:lastModifiedBy>LEGION</cp:lastModifiedBy>
  <dcterms:modified xsi:type="dcterms:W3CDTF">2016-01-11T10:02:26Z</dcterms:modified>
  <cp:revision>16</cp:revision>
  <dc:subject/>
  <dc:title>Тема 3. Методологические основы менеджмента: цель, задачи, принципы, методы, функции</dc:title>
</cp:coreProperties>
</file>